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6700-604B-4839-9314-6457E9CDEFC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83E3-F01B-464F-95C9-4782619813E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84C-D884-486A-9DA8-C46ED204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209-D552-41B3-A178-9777689B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B86-3A21-4F1A-86ED-B02E3BB1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71E-99CB-494C-8C1C-002C4DA0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F8FB-D79B-4AAD-9845-16C853DA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B4E1-85EE-427E-A219-4A7AE085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4A24-90F0-44BA-8B3F-C2D53EFE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7D19-8583-47A4-B5AC-F636BFFE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3C69-CA28-474D-8764-3183C457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E7F3-3879-4162-85A3-ADCC48E5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B4CB-16CD-4DF1-8898-3C4E2868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F73-9F02-4CE6-90E1-8616F6E0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59C9-448F-49A8-9E8D-8151ACD1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C01E-7074-4E8F-B3E7-D6C247C0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8494-AAD8-427F-A41A-0222271F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FBED-FA2F-4104-A1DD-7AFB0F92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DE02-4D34-469A-8BFE-3C564FED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49C44-6955-4184-9C81-8B5073ED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51014-48CF-4653-BDCC-BA85E400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0F36-868B-4EBB-8B01-D530B947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31FA2-1B50-47A3-B3E7-84D778CD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2270-EA89-49A6-80FC-926A6B50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522-729B-4434-89A5-3196329B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DF0AF-7747-42AA-89F2-74AFC1F4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49DEC-5D3E-4230-93C5-3ABE6879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E342C-1137-4C54-89A4-4AAEA30A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9F18-2D0D-40FE-B952-0BB16D70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4B54C-D426-478D-9DD9-B3E1F710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BAA8C-7C1A-4B0A-89EF-B398F92F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44AD3-657F-4B3E-B2D6-BCA1CC21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7DC8-E2B2-4341-B5E7-D58148A4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80DB8-313B-45D1-911F-A9CA0236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EA0A0-1492-42DF-98B9-2DDC6446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539-B4AC-430F-94AE-B01C1F36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6EF6B-2B14-448E-902E-E5594F8B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4EFA-CA3E-4834-B29A-6406F137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698FA-2CA5-463E-928A-9DA1EBC8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F1A2F-C595-46A3-9A95-BC7595C7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18365-FE47-4363-9B7F-244262A0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5E386-B174-4E3A-9FA8-37C0FAF5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AEEEE-6C43-4C97-A585-099CFDB3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FACF0-9C61-44D8-B725-E1D915BF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C30B5-8A4E-4640-8F02-93B1FC92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95DAC-EDDD-40BF-BA44-CF5A7464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669-5CC3-4515-9B93-6124EAF4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1FB14-4B31-4B12-A259-EBAAA29E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25BC0-B9E0-411D-B18A-7E27E866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018CF-4A9F-42C1-B322-BDEF31BF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A1266-C38D-45AA-84DB-EF473205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191FF-D920-453B-AB28-1638BC89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5BD7F-D51D-4229-8E84-A1813A7C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B5A71-30B4-4CAC-B62C-A8EA793B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5259E-FF7B-4FF7-9732-F13B69FB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D17B4-786D-4FDE-A576-84CF8238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3E959-AB09-493F-B0CA-4D6FF811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919-4A7B-4080-B1A7-C1EA1DDB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02B14-C2B7-4B11-AA7B-0203D994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2222A-5078-47A0-978A-F389CFFB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B6DF8-1797-419A-ABE0-69B704F4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D5E78-1D6E-487A-9018-5398EFDA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97C8C-C041-4067-9A5C-EF16D386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1D3CF-BEDC-4AF0-8B6B-7F9DC9F1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78A3D-D884-4BBC-B954-8FA5A3D2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D486C-F498-46F8-AA88-34136AA4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F1EC0-DA35-4C44-9B75-D2FE9C1D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01396-3ACA-47A7-8847-34B7B037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8A5-DFB2-43C6-A1B1-352C9124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98F0D-B924-4787-A9FC-E50BC17C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A6CF7-5DF8-4953-B6E0-2412839F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A6081-E1E2-4CFA-A075-F09E99E2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60DF9-C7D9-426D-B1F8-6E36B5F3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7DF7C-AE8F-4DF5-ABE9-46A93E12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FF7BA-C70A-481A-A42C-4387817F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0EC29-CF90-47E8-B2F3-F399DED7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93485-7D76-45A1-9D97-6EA43FED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7355B-971B-49B1-B8A2-EC01285C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E3A24-B027-43FD-9F18-67F225C4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D24-6824-4ABB-B8ED-8F7653D6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A497A-0FA5-4C2D-ABD4-7C10AB70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7EB29-4BE4-43EF-96AC-7B70E78B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0C549-5040-4417-85A6-560FB937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05811-1E94-4395-9B8A-495F7AAB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B8B93-93D4-44E5-B0CD-991A54BA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A2F2F-D1F3-415D-9BDA-14265E0A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92968-6378-45AC-AB15-03CCE995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0D61A-19F4-4E7A-B8B4-39DBCFC7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8D882-2756-46CC-BAB7-79A50F65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3899D-D8EA-4A0A-82A6-B5F0ABF9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DA1-9770-4A92-B4D8-CEF0C88F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AD7AC-B060-4E77-8433-FE1E68E7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6F810-8332-441F-9189-3B01B300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0C9B1-C2D6-4334-A717-AF473691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AD286-B18E-4C16-A12E-E0A9A198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D1781-4A83-404C-8044-0C9F5BF0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25C18-D9E8-47D5-BC4D-989F5440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CB3B6-A586-4377-B686-CD172569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FD56-A75C-4403-8871-687195E2D0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49F6-FE28-4560-8874-57F9010E6E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BC45-1F21-49C6-9C46-C496F2F86B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5EA6-B0C3-48AA-8CA8-AB52A906D0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1795-C17F-4A72-B230-91902FDE2B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0A95-735E-4783-BE91-7EFC79BE65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19C6-2799-4419-AAEE-5AB70FBB49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9BD5-E014-46C1-81E1-E84229E93E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390680"/>
            <a:ext cx="7826400" cy="2529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464646"/>
                </a:solidFill>
                <a:latin typeface="Lucida Sans Unicode"/>
              </a:rPr>
              <a:t>1 St. Paul Stree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464646"/>
                </a:solidFill>
                <a:latin typeface="Lucida Sans Unicode"/>
              </a:rPr>
              <a:t>St. Catharines, Ontari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464646"/>
                </a:solidFill>
                <a:latin typeface="Lucida Sans Unicode"/>
              </a:rPr>
              <a:t>905-641-2252, ext 4660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19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0810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Funded by MTCU, Employment Ontario to deliver employment services to the unemploy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9 full service delivery providers across Niagara Reg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ncludes 5 main area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Client Service Planning Coordin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Resource and Information Centr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Job Searc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Job Matching, Placement and Incenti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Job Reten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ther Employment progra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700" spc="-1" strike="noStrike">
                <a:solidFill>
                  <a:srgbClr val="000000"/>
                </a:solidFill>
                <a:latin typeface="Lucida Sans Unicode"/>
              </a:rPr>
              <a:t>EI status does not determine eligibility for any component of serv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SPC ensures that individuals will have access to the services they need to achieve career and employment go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SPC integrated into all ES components...evolving process...needs do not always reveal themselves at the beginning...emerges throughout the pro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vailable to everyone: employed, unemployed, underemployed, job seekers, students, employ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ffers the information and resources necessary to support ones job search and human resource nee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ffers computers, fax machine, phone, information on training, resume writing, job board, et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520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argeted for unemployed, out of school and legally entitled to work in Cana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Job Search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45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Individual assistance in establishing an occupational goal, development of a service plan with steps required to meet their training/employment goals and conduct their own job searc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ssistance in looking at training options and applying for Second Career fund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ssessments to determine areas of strength, interests, aptitu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Matching unemployed clients with suitable employ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For individuals who may have barriers to employ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ffering financial incentive to employers to help offset costs of trai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Providing mentoring and coaching support during and after the plac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3 providers in Niaga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42 week support for those who wish to start their own busi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Must be EI attach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Currently on E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On regular EI claim within last 36 month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On parental/maternity benefits within last 60 month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3217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all or visit any Employment Ontario service site for further information or assistan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457200" y="77472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6:40:23Z</dcterms:created>
  <dc:creator>REFIERIMONTE</dc:creator>
  <dc:description/>
  <dc:language>en-US</dc:language>
  <cp:lastModifiedBy>aholmes</cp:lastModifiedBy>
  <dcterms:modified xsi:type="dcterms:W3CDTF">2011-07-08T18:46:51Z</dcterms:modified>
  <cp:revision>11</cp:revision>
  <dc:subject/>
  <dc:title>Niagara College Employment and Training Solutions</dc:title>
</cp:coreProperties>
</file>